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au/imgres?imgurl=http://www.online-sign.com/signs/prohibition/thumbs/263.jpg&amp;imgrefurl=http://www.online-sign.com/catalog.php&amp;usg=__Jta-I4hU_OOU6iI-jdfphEUoJNw=&amp;h=150&amp;w=150&amp;sz=7&amp;hl=en&amp;start=9&amp;tbnid=9wO5sxI1XzUCsM:&amp;tbnh=96&amp;tbnw=96&amp;prev=/images%3Fq%3Dno%2Bdiving%2Bsigns%26gbv%3D2%26hl%3Den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.au/imgres?imgurl=http://www.aquam.com/uploads/img/thumbs/AQSA50205A96.jpg&amp;imgrefurl=http://www.aquam.com/3/Catalogs/Institutional/Pictograms.php&amp;usg=__IOEUZZIMBTTrFA6yAT2JsvTTgRg=&amp;h=98&amp;w=113&amp;sz=6&amp;hl=en&amp;start=10&amp;tbnid=hUULLoIXbMJhvM:&amp;tbnh=75&amp;tbnw=86&amp;prev=/images%3Fq%3Dno%2Brunning%2Bsigns%26gbv%3D2%26hl%3Den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490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s long as you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y to get in the Yarra centre how long can you st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f these signs mean no div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30400" y="587052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56200" y="5905440"/>
            <a:ext cx="819360" cy="71460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8"/>
          <a:stretch/>
        </p:blipFill>
        <p:spPr>
          <a:xfrm>
            <a:off x="5703840" y="4829040"/>
            <a:ext cx="892080" cy="86544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9"/>
          <a:stretch/>
        </p:blipFill>
        <p:spPr>
          <a:xfrm>
            <a:off x="1274760" y="4824360"/>
            <a:ext cx="846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 ho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15"/>
          <p:cNvSpPr/>
          <p:nvPr/>
        </p:nvSpPr>
        <p:spPr>
          <a:xfrm>
            <a:off x="822240" y="58561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0 min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alf and ho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 min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long should you wait before going swimming after ea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ver 3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ver 4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en you feel lik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w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76"/>
          <p:cNvSpPr/>
          <p:nvPr/>
        </p:nvSpPr>
        <p:spPr>
          <a:xfrm>
            <a:off x="638280" y="103356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 are at the beach when should you wear sunscre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ed and yel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ellow and or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reen and b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ink and or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colours are the safety flags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gnore the sig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5"/>
          <p:cNvSpPr/>
          <p:nvPr/>
        </p:nvSpPr>
        <p:spPr>
          <a:xfrm>
            <a:off x="592200" y="58388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Go some ware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wim but be carefu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7"/>
          <p:cNvSpPr/>
          <p:nvPr/>
        </p:nvSpPr>
        <p:spPr>
          <a:xfrm>
            <a:off x="5013360" y="5867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tay in the shallow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re is a beware of sharks sign at the beach do you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old do you need to be to be able to swim alone at the poo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3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4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wim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15"/>
          <p:cNvSpPr/>
          <p:nvPr/>
        </p:nvSpPr>
        <p:spPr>
          <a:xfrm>
            <a:off x="533520" y="60483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ttack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le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nnoy th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re are crocodiles in a river do you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ell and scr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aise your fist in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on’t say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hold on to your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you are having trouble swimming what do you do for hel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old do you need to be to be a life guard at the b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old do you need to be to be a lifeguard at the pool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ut oil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15"/>
          <p:cNvSpPr/>
          <p:nvPr/>
        </p:nvSpPr>
        <p:spPr>
          <a:xfrm>
            <a:off x="533520" y="6095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ut sand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ut vinegar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ut salt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do if you were stung by a jellyfis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3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4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5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2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3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1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0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8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6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7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5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3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0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1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$2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$3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$3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$2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uch does it cost to get in the Yarra cent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4200" y="4729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eave he beach without telling any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ttack it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e quite and le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5181480" y="5856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arn everyone?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do if you see a sha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5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do you need to be to get a boat licen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8T00:04:33Z</dcterms:modified>
  <cp:revision>21</cp:revision>
  <dc:subject/>
  <dc:title>No Slide Title</dc:title>
</cp:coreProperties>
</file>